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91491"/>
        <c:axId val="23425790"/>
      </c:barChart>
      <c:catAx>
        <c:axId val="888914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25790"/>
        <c:crosses val="autoZero"/>
        <c:auto val="1"/>
        <c:lblAlgn val="ctr"/>
        <c:lblOffset val="100"/>
        <c:noMultiLvlLbl val="0"/>
      </c:catAx>
      <c:valAx>
        <c:axId val="234257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914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E1C-4449-47C8-A194-38671937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DDA-FF94-436B-8454-D6953856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AC2-9CB8-49CB-B5BB-FB3FF8F8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736-D659-4EE2-BF2E-7AC5C299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5AD8-965C-4503-9544-E8DA9EB6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265-D9EC-4E6B-96EB-FA522EE3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4F44-E57B-4356-800D-7BA08286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F5A-BD2D-4A11-A079-55F6BA36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852-A6DA-4368-8ACB-6F18DABA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0BE-9D5F-49B6-A045-9687D288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6EC1-FC60-4AFC-8956-CD9A37B9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8F9-3FD1-49C8-A29E-803472BE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7F2DD-9A55-479F-B9CF-A12A5F7122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